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2F31-FD8A-4E81-B0A7-AD03DC024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EE95-AF8A-4607-A4CE-346B584CA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ABC-AAA2-4C12-AF92-F2F05FE2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1FBF-A59A-401F-BDBF-0C6BC982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2590-5227-4DC2-9E0F-F339B1DC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3C83-812F-4CB0-890A-EE3C1CAB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6C1-B0F2-4A47-9578-413F758C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11A-44DA-4CD2-AF80-AFD351D0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CBE-E385-4E41-9899-F0B6FFB5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4F4-156A-43FE-8440-E879FECE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B73-1BD5-42EA-B675-7BDB17D1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782-FB24-4792-B976-8D5EF271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0CD-8C18-4DA3-BD1C-ADC8080D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730-FEFA-4860-9B33-9C3E27BB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41E5-97B8-4D30-9C69-BE9A68F64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oselly Ju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oselly Juar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oselly Juarez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oselly Juar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5146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Tardes, Yo quiero bailo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alva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 llamo Joselly.  Yo vivo en la ciudad Astoria.  Tengo catorse años.  Yo no tengo hermanos. Soy símpatica y muy perezos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066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962520"/>
            <a:ext cx="41148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! Tengo mucho tarea.  Estoy mucho consada.  Y sí, me encanta bail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40384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Buenos Días, quiero va al parque? ¿En Serio, tu eres una bailarín?      Amy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90920"/>
            <a:ext cx="3886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u está loca.  Yo soy buena bailarín.                                             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971800" y="4724280"/>
            <a:ext cx="37339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Hola, cuantos tareas tenemos? ¿Yassmine, puedo  ir a tu casa?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alv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2578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s muy fastidioso.  No, estoy ocupado.                                                     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quieres hacer? Estoy aburrido.  ¿Tienes una impresora?            Salv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19320" y="5105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assm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293708_554841981209155_903745342_n.jpg"/>
          <p:cNvPicPr/>
          <p:nvPr/>
        </p:nvPicPr>
        <p:blipFill>
          <a:blip r:embed="rId1"/>
          <a:stretch/>
        </p:blipFill>
        <p:spPr>
          <a:xfrm>
            <a:off x="76320" y="457200"/>
            <a:ext cx="1904760" cy="2006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32309_306668989437759_574764083_n.jpg"/>
          <p:cNvPicPr/>
          <p:nvPr/>
        </p:nvPicPr>
        <p:blipFill>
          <a:blip r:embed="rId2"/>
          <a:stretch/>
        </p:blipFill>
        <p:spPr>
          <a:xfrm>
            <a:off x="685800" y="4572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32309_306668989437759_574764083_n.jpg"/>
          <p:cNvPicPr/>
          <p:nvPr/>
        </p:nvPicPr>
        <p:blipFill>
          <a:blip r:embed="rId3"/>
          <a:stretch/>
        </p:blipFill>
        <p:spPr>
          <a:xfrm>
            <a:off x="2133720" y="32767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561028_3030646025587_1998670104_n.jpg"/>
          <p:cNvPicPr/>
          <p:nvPr/>
        </p:nvPicPr>
        <p:blipFill>
          <a:blip r:embed="rId4"/>
          <a:stretch/>
        </p:blipFill>
        <p:spPr>
          <a:xfrm>
            <a:off x="152280" y="4495680"/>
            <a:ext cx="51444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561028_3030646025587_1998670104_n.jpg"/>
          <p:cNvPicPr/>
          <p:nvPr/>
        </p:nvPicPr>
        <p:blipFill>
          <a:blip r:embed="rId5"/>
          <a:stretch/>
        </p:blipFill>
        <p:spPr>
          <a:xfrm>
            <a:off x="2438280" y="4648320"/>
            <a:ext cx="400320" cy="53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561028_3030646025587_1998670104_n.jpg"/>
          <p:cNvPicPr/>
          <p:nvPr/>
        </p:nvPicPr>
        <p:blipFill>
          <a:blip r:embed="rId6"/>
          <a:stretch/>
        </p:blipFill>
        <p:spPr>
          <a:xfrm>
            <a:off x="2133720" y="60199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528941_401872746527519_1209051677_n.jpg"/>
          <p:cNvPicPr/>
          <p:nvPr/>
        </p:nvPicPr>
        <p:blipFill>
          <a:blip r:embed="rId7"/>
          <a:stretch/>
        </p:blipFill>
        <p:spPr>
          <a:xfrm>
            <a:off x="1371600" y="452916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528941_401872746527519_1209051677_n.jpg"/>
          <p:cNvPicPr/>
          <p:nvPr/>
        </p:nvPicPr>
        <p:blipFill>
          <a:blip r:embed="rId8"/>
          <a:stretch/>
        </p:blipFill>
        <p:spPr>
          <a:xfrm>
            <a:off x="2209680" y="25146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528941_401872746527519_1209051677_n.jpg"/>
          <p:cNvPicPr/>
          <p:nvPr/>
        </p:nvPicPr>
        <p:blipFill>
          <a:blip r:embed="rId9"/>
          <a:stretch/>
        </p:blipFill>
        <p:spPr>
          <a:xfrm>
            <a:off x="2209680" y="39625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528941_401872746527519_1209051677_n.jpg"/>
          <p:cNvPicPr/>
          <p:nvPr/>
        </p:nvPicPr>
        <p:blipFill>
          <a:blip r:embed="rId10"/>
          <a:stretch/>
        </p:blipFill>
        <p:spPr>
          <a:xfrm>
            <a:off x="2133720" y="52578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73012_379901238766965_901394990_n.jpg"/>
          <p:cNvPicPr/>
          <p:nvPr/>
        </p:nvPicPr>
        <p:blipFill>
          <a:blip r:embed="rId11"/>
          <a:stretch/>
        </p:blipFill>
        <p:spPr>
          <a:xfrm>
            <a:off x="76320" y="5410080"/>
            <a:ext cx="609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6:00Z</dcterms:modified>
  <cp:revision>113</cp:revision>
  <dc:subject/>
  <dc:title>Profile</dc:title>
</cp:coreProperties>
</file>